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562-6453-4D71-8013-856E544F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38E-EC09-4232-8955-4E64B4C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5F4-53FD-4C3F-AE8E-8F00A14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66C-8A3D-41AB-AA79-5F899F5C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077-4BAE-4070-B955-CE3A94FD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8BB-75C4-4655-AD0E-D3D34315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A36-CA9A-4BE2-98B3-9A7449B4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1CA-3E90-4979-98A7-E97B219B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BB7-41FC-4155-BC87-BF50264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CD6-2564-40D7-97FD-6034684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3E4-BC7E-433C-A501-0C3E9BE8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B88-22C4-46C3-8A09-5222E3B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4C9B-7386-4DBB-8FA6-E06B982B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i ge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unghi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2565360"/>
            <a:ext cx="2305080" cy="194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5640" y="1773360"/>
            <a:ext cx="1943280" cy="28080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1341360"/>
            <a:ext cx="2305080" cy="323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9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0133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eptung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501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s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rulat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figuri ge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9:38:14Z</dcterms:created>
  <dc:creator>AS</dc:creator>
  <dc:description/>
  <dc:language>en-US</dc:language>
  <cp:lastModifiedBy>AS</cp:lastModifiedBy>
  <dcterms:modified xsi:type="dcterms:W3CDTF">2010-01-07T19:52:27Z</dcterms:modified>
  <cp:revision>2</cp:revision>
  <dc:subject/>
  <dc:title>Figuri geometrice</dc:title>
</cp:coreProperties>
</file>